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6F3-58C8-438D-A216-796284DB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1A7-53A8-40E8-B818-A701FB79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A55-BA06-4089-8DA8-B97C8B66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43D-05C1-4D37-99CB-8A5D9C4A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1DE-6779-4E86-90B6-863C59F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E65-653E-4249-803E-CF63871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759-D4B2-4E4E-8D40-DEFDA5AF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A84-3A6A-4D13-B6C2-4EF0CFA5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A8F-3F87-4BCB-94FC-888FA48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EAB-4C3D-40E9-8EAA-CC6642D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462-64A2-495A-8643-8CF6F35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9FB-A1F1-471F-B434-DE11EAE0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AB9D-2CAC-4108-9BE0-A2139A274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2 de may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erminamos el repaso para el Examen de la Unidad 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Write the 2 examples for each cata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y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muer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bida Ca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bida F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viven uste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aprenden ustedes en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regresas a casa, ¿ves telev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Recibes muchos correos electron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¿Leen y escriben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Por qué tienes que estudiar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¿Por qué no vas a co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Por qué vas a ir a la cafete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. ¿Por qué   no van a ver ustedes la televis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- Copy and complete with the correct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viv____ en Arizona y asist___ a una escuela secund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no recib_______ buenas no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fé, Carlos v____ una mesa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enú es en español pero ellos comprend_____ el men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aprend____ mucho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ria y Felipe tien______ ha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isa beb____ un batido de fru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edes com_____ tacos de car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ten______ sed y beb_____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6108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- Complete each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____ de tom___ un ex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_ que est___ en la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 de apren____ algo nue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orge _______ a com____ al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 que recib____ notas bu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_______ a viv____ en Kan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isa _______ de lleg____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 que _____ a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8:52:28Z</dcterms:created>
  <dc:creator>Helen Zumaeta</dc:creator>
  <dc:description/>
  <dc:language>en-US</dc:language>
  <cp:lastModifiedBy>Helen Zumaeta</cp:lastModifiedBy>
  <dcterms:modified xsi:type="dcterms:W3CDTF">2011-05-12T18:52:50Z</dcterms:modified>
  <cp:revision>1</cp:revision>
  <dc:subject/>
  <dc:title>Me llamo __________ Clase 8im La fecha es el 12 de mayo del 2011</dc:title>
</cp:coreProperties>
</file>